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B763-FE96-409C-8668-E69F369A3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F5A5-2D86-49D8-9AD9-0019E2A09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2E7B-B9B6-4123-A950-BCF730564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B50D-CA28-4F46-AC36-D525AB088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E5E0-9184-4741-8C9B-7391CD796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8C61-B5FD-4217-8D5B-05744F528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71A7-BEB5-46C7-A763-422E7D4C3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5D23-C386-496A-8112-658D61866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BC1C-3DB5-49CC-8A90-60E8D3B01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2EC7-592F-4C62-8ED8-05A2CC90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26A3-3220-4991-AE1B-0E2B6A35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A03A-43C4-4D10-9F81-152C93B7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5960" y="883872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 2009 Reiner Kü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0D2-C8B4-4C2D-912E-148C5FF7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97200" y="609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Kundenauf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g ist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troff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238560" y="3124080"/>
            <a:ext cx="380880" cy="3812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X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9720" y="114300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uftrag erfassen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nd mit Kunden-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atei abglei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760" y="609480"/>
            <a:ext cx="1143000" cy="456840"/>
            <a:chOff x="266760" y="609480"/>
            <a:chExt cx="1143000" cy="456840"/>
          </a:xfrm>
        </p:grpSpPr>
        <p:sp>
          <p:nvSpPr>
            <p:cNvPr id="44" name=""/>
            <p:cNvSpPr/>
            <p:nvPr/>
          </p:nvSpPr>
          <p:spPr>
            <a:xfrm>
              <a:off x="266760" y="6094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9400" y="7009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514840" y="1066680"/>
            <a:ext cx="1008360" cy="270000"/>
            <a:chOff x="5514840" y="1066680"/>
            <a:chExt cx="1008360" cy="270000"/>
          </a:xfrm>
        </p:grpSpPr>
        <p:sp>
          <p:nvSpPr>
            <p:cNvPr id="47" name=""/>
            <p:cNvSpPr/>
            <p:nvPr/>
          </p:nvSpPr>
          <p:spPr>
            <a:xfrm>
              <a:off x="5514840" y="106668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Kundenauftra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81800" y="10666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55880" y="10666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" name=""/>
          <p:cNvCxnSpPr>
            <a:stCxn id="40" idx="3"/>
            <a:endCxn id="42" idx="0"/>
          </p:cNvCxnSpPr>
          <p:nvPr/>
        </p:nvCxnSpPr>
        <p:spPr>
          <a:xfrm>
            <a:off x="2978280" y="876240"/>
            <a:ext cx="1441440" cy="2671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897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icht 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4378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bestell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Eingan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überw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14840" y="4513320"/>
            <a:ext cx="1008360" cy="269640"/>
            <a:chOff x="5514840" y="4513320"/>
            <a:chExt cx="1008360" cy="269640"/>
          </a:xfrm>
        </p:grpSpPr>
        <p:sp>
          <p:nvSpPr>
            <p:cNvPr id="54" name=""/>
            <p:cNvSpPr/>
            <p:nvPr/>
          </p:nvSpPr>
          <p:spPr>
            <a:xfrm>
              <a:off x="5514840" y="4513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Bestell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180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5588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97200" y="796284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usgelief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514840" y="1447920"/>
            <a:ext cx="1008360" cy="269640"/>
            <a:chOff x="5514840" y="1447920"/>
            <a:chExt cx="1008360" cy="269640"/>
          </a:xfrm>
        </p:grpSpPr>
        <p:sp>
          <p:nvSpPr>
            <p:cNvPr id="59" name=""/>
            <p:cNvSpPr/>
            <p:nvPr/>
          </p:nvSpPr>
          <p:spPr>
            <a:xfrm>
              <a:off x="5514840" y="14479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Kundendate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1800" y="14479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55880" y="14479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886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ich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Verdana"/>
              </a:rPr>
              <a:t>nic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1" idx="6"/>
            <a:endCxn id="62" idx="0"/>
          </p:cNvCxnSpPr>
          <p:nvPr/>
        </p:nvCxnSpPr>
        <p:spPr>
          <a:xfrm>
            <a:off x="3619440" y="3314880"/>
            <a:ext cx="807840" cy="266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1" idx="2"/>
            <a:endCxn id="51" idx="0"/>
          </p:cNvCxnSpPr>
          <p:nvPr/>
        </p:nvCxnSpPr>
        <p:spPr>
          <a:xfrm flipV="1" rot="10800000">
            <a:off x="2437920" y="3314880"/>
            <a:ext cx="801000" cy="266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79720" y="60199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versand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ertig m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2" idx="2"/>
            <a:endCxn id="52" idx="0"/>
          </p:cNvCxnSpPr>
          <p:nvPr/>
        </p:nvCxnSpPr>
        <p:spPr>
          <a:xfrm flipH="1">
            <a:off x="4419360" y="4114800"/>
            <a:ext cx="7920" cy="26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7" idx="1"/>
            <a:endCxn id="42" idx="3"/>
          </p:cNvCxnSpPr>
          <p:nvPr/>
        </p:nvCxnSpPr>
        <p:spPr>
          <a:xfrm flipV="1" rot="10800000">
            <a:off x="4959000" y="1201680"/>
            <a:ext cx="555840" cy="211320"/>
          </a:xfrm>
          <a:prstGeom prst="bentConnector3">
            <a:avLst>
              <a:gd name="adj1" fmla="val 495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42" idx="3"/>
          </p:cNvCxnSpPr>
          <p:nvPr/>
        </p:nvCxnSpPr>
        <p:spPr>
          <a:xfrm rot="10800000">
            <a:off x="4959000" y="1412640"/>
            <a:ext cx="555840" cy="170280"/>
          </a:xfrm>
          <a:prstGeom prst="bentConnector3">
            <a:avLst>
              <a:gd name="adj1" fmla="val 495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9" name=""/>
          <p:cNvCxnSpPr>
            <a:stCxn id="52" idx="3"/>
            <a:endCxn id="54" idx="1"/>
          </p:cNvCxnSpPr>
          <p:nvPr/>
        </p:nvCxnSpPr>
        <p:spPr>
          <a:xfrm>
            <a:off x="4959360" y="4647960"/>
            <a:ext cx="55584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70" name=""/>
          <p:cNvGrpSpPr/>
          <p:nvPr/>
        </p:nvGrpSpPr>
        <p:grpSpPr>
          <a:xfrm>
            <a:off x="266760" y="1295280"/>
            <a:ext cx="1143000" cy="456840"/>
            <a:chOff x="266760" y="1295280"/>
            <a:chExt cx="1143000" cy="456840"/>
          </a:xfrm>
        </p:grpSpPr>
        <p:sp>
          <p:nvSpPr>
            <p:cNvPr id="71" name=""/>
            <p:cNvSpPr/>
            <p:nvPr/>
          </p:nvSpPr>
          <p:spPr>
            <a:xfrm>
              <a:off x="266760" y="12952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erkstatt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bü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400" y="13867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97200" y="209556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uftra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st erfas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2" idx="2"/>
            <a:endCxn id="73" idx="0"/>
          </p:cNvCxnSpPr>
          <p:nvPr/>
        </p:nvCxnSpPr>
        <p:spPr>
          <a:xfrm rot="5400000">
            <a:off x="3222000" y="898200"/>
            <a:ext cx="413280" cy="1981800"/>
          </a:xfrm>
          <a:prstGeom prst="bentConnector5">
            <a:avLst>
              <a:gd name="adj1" fmla="val 57279"/>
              <a:gd name="adj2" fmla="val 49890"/>
              <a:gd name="adj3" fmla="val 427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3879720" y="2092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rüf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14840" y="2227320"/>
            <a:ext cx="1008360" cy="269640"/>
            <a:chOff x="5514840" y="2227320"/>
            <a:chExt cx="1008360" cy="269640"/>
          </a:xfrm>
        </p:grpSpPr>
        <p:sp>
          <p:nvSpPr>
            <p:cNvPr id="77" name=""/>
            <p:cNvSpPr/>
            <p:nvPr/>
          </p:nvSpPr>
          <p:spPr>
            <a:xfrm>
              <a:off x="5514840" y="2227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agerdate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180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588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" name=""/>
          <p:cNvCxnSpPr>
            <a:stCxn id="73" idx="3"/>
            <a:endCxn id="75" idx="1"/>
          </p:cNvCxnSpPr>
          <p:nvPr/>
        </p:nvCxnSpPr>
        <p:spPr>
          <a:xfrm flipV="1">
            <a:off x="2978280" y="2361960"/>
            <a:ext cx="901800" cy="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5" idx="2"/>
            <a:endCxn id="41" idx="0"/>
          </p:cNvCxnSpPr>
          <p:nvPr/>
        </p:nvCxnSpPr>
        <p:spPr>
          <a:xfrm rot="5400000">
            <a:off x="3677760" y="2382840"/>
            <a:ext cx="492480" cy="99072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" name=""/>
          <p:cNvGrpSpPr/>
          <p:nvPr/>
        </p:nvGrpSpPr>
        <p:grpSpPr>
          <a:xfrm>
            <a:off x="266760" y="2133720"/>
            <a:ext cx="1143000" cy="456840"/>
            <a:chOff x="266760" y="2133720"/>
            <a:chExt cx="1143000" cy="456840"/>
          </a:xfrm>
        </p:grpSpPr>
        <p:sp>
          <p:nvSpPr>
            <p:cNvPr id="83" name=""/>
            <p:cNvSpPr/>
            <p:nvPr/>
          </p:nvSpPr>
          <p:spPr>
            <a:xfrm>
              <a:off x="266760" y="21337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400" y="22251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78280" y="5181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stellt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ga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7200" y="704844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versandfert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9720" y="7045200"/>
            <a:ext cx="1079640" cy="5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n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erstellen un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Möbel ausliefer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14840" y="7010280"/>
            <a:ext cx="1008360" cy="270000"/>
            <a:chOff x="5514840" y="7010280"/>
            <a:chExt cx="1008360" cy="270000"/>
          </a:xfrm>
        </p:grpSpPr>
        <p:sp>
          <p:nvSpPr>
            <p:cNvPr id="89" name=""/>
            <p:cNvSpPr/>
            <p:nvPr/>
          </p:nvSpPr>
          <p:spPr>
            <a:xfrm>
              <a:off x="5514840" y="701028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Rechn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1800" y="70102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55880" y="70102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14840" y="7350120"/>
            <a:ext cx="1008360" cy="270000"/>
            <a:chOff x="5514840" y="7350120"/>
            <a:chExt cx="1008360" cy="270000"/>
          </a:xfrm>
        </p:grpSpPr>
        <p:sp>
          <p:nvSpPr>
            <p:cNvPr id="93" name=""/>
            <p:cNvSpPr/>
            <p:nvPr/>
          </p:nvSpPr>
          <p:spPr>
            <a:xfrm>
              <a:off x="5514840" y="735012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iefersch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1800" y="735012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55880" y="735012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43440" y="861048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7" y="0"/>
                </a:lnTo>
                <a:lnTo>
                  <a:pt x="21600" y="10800"/>
                </a:lnTo>
                <a:lnTo>
                  <a:pt x="17947" y="21600"/>
                </a:lnTo>
                <a:lnTo>
                  <a:pt x="0" y="21600"/>
                </a:lnTo>
                <a:lnTo>
                  <a:pt x="3653" y="10800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ächst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ilproz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760" y="4495680"/>
            <a:ext cx="1143000" cy="456840"/>
            <a:chOff x="266760" y="4495680"/>
            <a:chExt cx="1143000" cy="456840"/>
          </a:xfrm>
        </p:grpSpPr>
        <p:sp>
          <p:nvSpPr>
            <p:cNvPr id="98" name=""/>
            <p:cNvSpPr/>
            <p:nvPr/>
          </p:nvSpPr>
          <p:spPr>
            <a:xfrm>
              <a:off x="266760" y="44956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erkstatt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bü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400" y="45871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66760" y="7086600"/>
            <a:ext cx="1143000" cy="456840"/>
            <a:chOff x="266760" y="7086600"/>
            <a:chExt cx="1143000" cy="456840"/>
          </a:xfrm>
        </p:grpSpPr>
        <p:sp>
          <p:nvSpPr>
            <p:cNvPr id="101" name=""/>
            <p:cNvSpPr/>
            <p:nvPr/>
          </p:nvSpPr>
          <p:spPr>
            <a:xfrm>
              <a:off x="266760" y="708660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00" y="717804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"/>
          <p:cNvCxnSpPr>
            <a:stCxn id="52" idx="2"/>
            <a:endCxn id="85" idx="0"/>
          </p:cNvCxnSpPr>
          <p:nvPr/>
        </p:nvCxnSpPr>
        <p:spPr>
          <a:xfrm flipH="1">
            <a:off x="4419000" y="4917960"/>
            <a:ext cx="72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5" idx="2"/>
            <a:endCxn id="65" idx="0"/>
          </p:cNvCxnSpPr>
          <p:nvPr/>
        </p:nvCxnSpPr>
        <p:spPr>
          <a:xfrm>
            <a:off x="44190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87" idx="3"/>
            <a:endCxn id="89" idx="1"/>
          </p:cNvCxnSpPr>
          <p:nvPr/>
        </p:nvCxnSpPr>
        <p:spPr>
          <a:xfrm flipV="1">
            <a:off x="4959360" y="7145280"/>
            <a:ext cx="555840" cy="170280"/>
          </a:xfrm>
          <a:prstGeom prst="bentConnector3">
            <a:avLst>
              <a:gd name="adj1" fmla="val 5042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87" idx="3"/>
            <a:endCxn id="93" idx="1"/>
          </p:cNvCxnSpPr>
          <p:nvPr/>
        </p:nvCxnSpPr>
        <p:spPr>
          <a:xfrm>
            <a:off x="4959360" y="7315200"/>
            <a:ext cx="555840" cy="170280"/>
          </a:xfrm>
          <a:prstGeom prst="bentConnector3">
            <a:avLst>
              <a:gd name="adj1" fmla="val 5042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7" name=""/>
          <p:cNvCxnSpPr>
            <a:stCxn id="65" idx="2"/>
            <a:endCxn id="86" idx="0"/>
          </p:cNvCxnSpPr>
          <p:nvPr/>
        </p:nvCxnSpPr>
        <p:spPr>
          <a:xfrm rot="5400000">
            <a:off x="3184200" y="5813280"/>
            <a:ext cx="489240" cy="1981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6" idx="3"/>
            <a:endCxn id="87" idx="1"/>
          </p:cNvCxnSpPr>
          <p:nvPr/>
        </p:nvCxnSpPr>
        <p:spPr>
          <a:xfrm>
            <a:off x="2978280" y="7315200"/>
            <a:ext cx="901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7" idx="2"/>
            <a:endCxn id="57" idx="0"/>
          </p:cNvCxnSpPr>
          <p:nvPr/>
        </p:nvCxnSpPr>
        <p:spPr>
          <a:xfrm rot="5400000">
            <a:off x="3239640" y="6783120"/>
            <a:ext cx="378000" cy="1981800"/>
          </a:xfrm>
          <a:prstGeom prst="bentConnector5">
            <a:avLst>
              <a:gd name="adj1" fmla="val 62726"/>
              <a:gd name="adj2" fmla="val 49890"/>
              <a:gd name="adj3" fmla="val 3736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57" idx="3"/>
            <a:endCxn id="96" idx="0"/>
          </p:cNvCxnSpPr>
          <p:nvPr/>
        </p:nvCxnSpPr>
        <p:spPr>
          <a:xfrm>
            <a:off x="2978280" y="8229600"/>
            <a:ext cx="965520" cy="381240"/>
          </a:xfrm>
          <a:prstGeom prst="bentConnector3">
            <a:avLst>
              <a:gd name="adj1" fmla="val 4949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51" idx="2"/>
            <a:endCxn id="65" idx="1"/>
          </p:cNvCxnSpPr>
          <p:nvPr/>
        </p:nvCxnSpPr>
        <p:spPr>
          <a:xfrm flipH="1" rot="16200000">
            <a:off x="2071440" y="4480920"/>
            <a:ext cx="2175120" cy="1442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77" idx="1"/>
            <a:endCxn id="75" idx="3"/>
          </p:cNvCxnSpPr>
          <p:nvPr/>
        </p:nvCxnSpPr>
        <p:spPr>
          <a:xfrm flipH="1">
            <a:off x="4959360" y="2361960"/>
            <a:ext cx="55584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90440" y="181080"/>
            <a:ext cx="6515280" cy="322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0000"/>
                </a:solidFill>
                <a:uFillTx/>
                <a:latin typeface="Verdana"/>
              </a:rPr>
              <a:t>Geschäftsprozess: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   Kundenauftrag bearbeiten - Lösung 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8560" y="3124080"/>
            <a:ext cx="380880" cy="3812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X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6760" y="2133720"/>
            <a:ext cx="1143000" cy="456840"/>
            <a:chOff x="266760" y="2133720"/>
            <a:chExt cx="1143000" cy="456840"/>
          </a:xfrm>
        </p:grpSpPr>
        <p:sp>
          <p:nvSpPr>
            <p:cNvPr id="116" name=""/>
            <p:cNvSpPr/>
            <p:nvPr/>
          </p:nvSpPr>
          <p:spPr>
            <a:xfrm>
              <a:off x="266760" y="21337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400" y="22251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97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treffen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tzeitig e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9720" y="4378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ahn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chreib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verse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14840" y="4513320"/>
            <a:ext cx="1008360" cy="269640"/>
            <a:chOff x="5514840" y="4513320"/>
            <a:chExt cx="1008360" cy="269640"/>
          </a:xfrm>
        </p:grpSpPr>
        <p:sp>
          <p:nvSpPr>
            <p:cNvPr id="121" name=""/>
            <p:cNvSpPr/>
            <p:nvPr/>
          </p:nvSpPr>
          <p:spPr>
            <a:xfrm>
              <a:off x="5514840" y="4513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ahn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8180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588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6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iefer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erfolg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Verdana"/>
              </a:rPr>
              <a:t>nicht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tzeit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4" idx="6"/>
            <a:endCxn id="124" idx="0"/>
          </p:cNvCxnSpPr>
          <p:nvPr/>
        </p:nvCxnSpPr>
        <p:spPr>
          <a:xfrm>
            <a:off x="3629160" y="3314880"/>
            <a:ext cx="799200" cy="257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4" idx="2"/>
            <a:endCxn id="118" idx="0"/>
          </p:cNvCxnSpPr>
          <p:nvPr/>
        </p:nvCxnSpPr>
        <p:spPr>
          <a:xfrm flipV="1" rot="10800000">
            <a:off x="2437560" y="3314520"/>
            <a:ext cx="791280" cy="257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879720" y="60199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versand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ertig m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4" idx="2"/>
            <a:endCxn id="119" idx="0"/>
          </p:cNvCxnSpPr>
          <p:nvPr/>
        </p:nvCxnSpPr>
        <p:spPr>
          <a:xfrm flipH="1">
            <a:off x="4419360" y="4124160"/>
            <a:ext cx="8640" cy="245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9" idx="3"/>
            <a:endCxn id="121" idx="1"/>
          </p:cNvCxnSpPr>
          <p:nvPr/>
        </p:nvCxnSpPr>
        <p:spPr>
          <a:xfrm>
            <a:off x="4968360" y="4647960"/>
            <a:ext cx="546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879720" y="2092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bestell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Eingan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überw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14840" y="2227320"/>
            <a:ext cx="1008360" cy="269640"/>
            <a:chOff x="5514840" y="2227320"/>
            <a:chExt cx="1008360" cy="269640"/>
          </a:xfrm>
        </p:grpSpPr>
        <p:sp>
          <p:nvSpPr>
            <p:cNvPr id="132" name=""/>
            <p:cNvSpPr/>
            <p:nvPr/>
          </p:nvSpPr>
          <p:spPr>
            <a:xfrm>
              <a:off x="5514840" y="2227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Bestell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180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5588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" name=""/>
          <p:cNvCxnSpPr>
            <a:stCxn id="130" idx="2"/>
            <a:endCxn id="114" idx="0"/>
          </p:cNvCxnSpPr>
          <p:nvPr/>
        </p:nvCxnSpPr>
        <p:spPr>
          <a:xfrm rot="5400000">
            <a:off x="3687120" y="2382840"/>
            <a:ext cx="473760" cy="991440"/>
          </a:xfrm>
          <a:prstGeom prst="bentConnector3">
            <a:avLst>
              <a:gd name="adj1" fmla="val 3551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878280" y="5181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stellt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ga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6760" y="4495680"/>
            <a:ext cx="1143000" cy="456840"/>
            <a:chOff x="266760" y="4495680"/>
            <a:chExt cx="1143000" cy="456840"/>
          </a:xfrm>
        </p:grpSpPr>
        <p:sp>
          <p:nvSpPr>
            <p:cNvPr id="138" name=""/>
            <p:cNvSpPr/>
            <p:nvPr/>
          </p:nvSpPr>
          <p:spPr>
            <a:xfrm>
              <a:off x="266760" y="44956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9400" y="45871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" name=""/>
          <p:cNvCxnSpPr>
            <a:stCxn id="119" idx="2"/>
            <a:endCxn id="136" idx="0"/>
          </p:cNvCxnSpPr>
          <p:nvPr/>
        </p:nvCxnSpPr>
        <p:spPr>
          <a:xfrm>
            <a:off x="4419360" y="4927320"/>
            <a:ext cx="1080" cy="24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6" idx="2"/>
            <a:endCxn id="127" idx="0"/>
          </p:cNvCxnSpPr>
          <p:nvPr/>
        </p:nvCxnSpPr>
        <p:spPr>
          <a:xfrm>
            <a:off x="4419360" y="572436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8" idx="2"/>
            <a:endCxn id="127" idx="1"/>
          </p:cNvCxnSpPr>
          <p:nvPr/>
        </p:nvCxnSpPr>
        <p:spPr>
          <a:xfrm flipH="1" rot="16200000">
            <a:off x="2071440" y="4490280"/>
            <a:ext cx="2166120" cy="1432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1"/>
            <a:endCxn id="130" idx="3"/>
          </p:cNvCxnSpPr>
          <p:nvPr/>
        </p:nvCxnSpPr>
        <p:spPr>
          <a:xfrm flipH="1">
            <a:off x="4968360" y="2361960"/>
            <a:ext cx="546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90440" y="181080"/>
            <a:ext cx="6515280" cy="322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0000"/>
                </a:solidFill>
                <a:uFillTx/>
                <a:latin typeface="Verdana"/>
              </a:rPr>
              <a:t>Geschäftsprozess: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   Kundenauftrag bearbeiten - Lösung 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 flipH="1">
            <a:off x="4411080" y="1676520"/>
            <a:ext cx="13320" cy="39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6" name=""/>
          <p:cNvGrpSpPr/>
          <p:nvPr/>
        </p:nvGrpSpPr>
        <p:grpSpPr>
          <a:xfrm>
            <a:off x="266760" y="3505320"/>
            <a:ext cx="1143000" cy="456840"/>
            <a:chOff x="266760" y="3505320"/>
            <a:chExt cx="1143000" cy="456840"/>
          </a:xfrm>
        </p:grpSpPr>
        <p:sp>
          <p:nvSpPr>
            <p:cNvPr id="147" name=""/>
            <p:cNvSpPr/>
            <p:nvPr/>
          </p:nvSpPr>
          <p:spPr>
            <a:xfrm>
              <a:off x="266760" y="35053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" y="35967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66760" y="5867280"/>
            <a:ext cx="1143000" cy="456840"/>
            <a:chOff x="266760" y="5867280"/>
            <a:chExt cx="1143000" cy="456840"/>
          </a:xfrm>
        </p:grpSpPr>
        <p:sp>
          <p:nvSpPr>
            <p:cNvPr id="150" name=""/>
            <p:cNvSpPr/>
            <p:nvPr/>
          </p:nvSpPr>
          <p:spPr>
            <a:xfrm>
              <a:off x="266760" y="58672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400" y="59587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07:12:40Z</dcterms:created>
  <dc:creator> Reiner Kühn</dc:creator>
  <dc:description/>
  <dc:language>en-US</dc:language>
  <cp:lastModifiedBy>Reiner Kühn</cp:lastModifiedBy>
  <dcterms:modified xsi:type="dcterms:W3CDTF">2009-08-22T15:44:23Z</dcterms:modified>
  <cp:revision>24</cp:revision>
  <dc:subject/>
  <dc:title>PowerPoint-Präsentation</dc:title>
</cp:coreProperties>
</file>